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62E7-0014-459A-AFB8-293FEED91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7ECD-3B82-4933-AC1F-62955B97B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0016-201C-45F1-930A-571D7DF44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D4DF-1A54-4E62-BD78-2E8438980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D463-9A28-4109-9A5D-73DBAD350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3675-C84A-4DB7-BE00-5F0A45A30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1CAD-492C-4A98-8CBB-53CB22654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9931-E76B-44A0-A095-38F3DCB27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6512-3EDB-41A8-97EF-B420E7AEB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3175-4207-453C-855D-82ECBD9F7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DF34-38D1-4582-B813-6454D63EC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C739-BE76-431C-B599-337A6EAAF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681DA-4957-4028-9423-B565BFBAE6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psychometrica.ru/" TargetMode="External"/><Relationship Id="rId3" Type="http://schemas.openxmlformats.org/officeDocument/2006/relationships/hyperlink" Target="http://psytest.info/taxonomy/term/16/all" TargetMode="External"/><Relationship Id="rId4" Type="http://schemas.openxmlformats.org/officeDocument/2006/relationships/hyperlink" Target="http://vch.narod.ru/myprog.htm" TargetMode="External"/><Relationship Id="rId5" Type="http://schemas.openxmlformats.org/officeDocument/2006/relationships/hyperlink" Target="http://psylib.myword.ru/index.php?s" TargetMode="External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0" y="2998800"/>
            <a:ext cx="9199440" cy="21463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Users\irort\Desktop\2018 год\Логотип\Победитель\логотип ИРО (разные цвета)\3.jpg"/>
          <p:cNvPicPr/>
          <p:nvPr/>
        </p:nvPicPr>
        <p:blipFill>
          <a:blip r:embed="rId2"/>
          <a:stretch/>
        </p:blipFill>
        <p:spPr>
          <a:xfrm>
            <a:off x="4211640" y="1268280"/>
            <a:ext cx="1008000" cy="13496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e867c"/>
                </a:solidFill>
                <a:latin typeface="Arial"/>
              </a:rPr>
              <a:t>Государственное автономное образовательное учреждение дополнительного профессионального образования </a:t>
            </a:r>
            <a:br>
              <a:rPr sz="1600"/>
            </a:br>
            <a:r>
              <a:rPr b="1" lang="ru-RU" sz="1600" spc="-1" strike="noStrike">
                <a:solidFill>
                  <a:srgbClr val="2e867c"/>
                </a:solidFill>
                <a:latin typeface="Arial"/>
              </a:rPr>
              <a:t>«ИНСТИТУТ РАЗВИТИЯ ОБРАЗОВАНИЯ РЕСПУБЛИКИ ТАТАРСТАН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Заголовок 1"/>
          <p:cNvSpPr/>
          <p:nvPr/>
        </p:nvSpPr>
        <p:spPr>
          <a:xfrm>
            <a:off x="539640" y="3013200"/>
            <a:ext cx="8439120" cy="20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Как организовать психолого-педагогическую поддержку обучающихся, педагогов и родителей в условиях дистанционного обучения и самоизоля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6036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1"/>
          <p:cNvSpPr/>
          <p:nvPr/>
        </p:nvSpPr>
        <p:spPr>
          <a:xfrm>
            <a:off x="539640" y="260280"/>
            <a:ext cx="6840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3.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сихологическая диагностика 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– использовать огромное разнообразие  психологических тестов в компьютерном варианте (есть электронный комплект «Эффектон», или использовать ресурс  Интернета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psychometrica.r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psytest.info/taxonomy/term/16/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vch.narod.ru/myprog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psylib.myword.ru/index.php?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2"/>
          <p:cNvSpPr/>
          <p:nvPr/>
        </p:nvSpPr>
        <p:spPr>
          <a:xfrm>
            <a:off x="561960" y="2906640"/>
            <a:ext cx="8064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4.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ррекционно-развивающая работа 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по возможности продолжается  в дистанционном режим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ля этого можно использова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- школьный/центра или службы  сайт или персональный сайт педагога-психолога, на котором выставляются расписание коррекционных занятий, задания, видео-занятия, видео-гимнастики и пр.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- электронную почту (индивидуальные задания высылаются детям и затем проверяется их выполнение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- онлайн- и мобильные тренажеры, развивающие игр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"/>
          <p:cNvPicPr/>
          <p:nvPr/>
        </p:nvPicPr>
        <p:blipFill>
          <a:blip r:embed="rId6"/>
          <a:stretch/>
        </p:blipFill>
        <p:spPr>
          <a:xfrm>
            <a:off x="7236000" y="703440"/>
            <a:ext cx="1276200" cy="1699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2" descr=""/>
          <p:cNvPicPr/>
          <p:nvPr/>
        </p:nvPicPr>
        <p:blipFill>
          <a:blip r:embed="rId7"/>
          <a:stretch/>
        </p:blipFill>
        <p:spPr>
          <a:xfrm>
            <a:off x="6732720" y="4830840"/>
            <a:ext cx="22827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6036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1"/>
          <p:cNvSpPr/>
          <p:nvPr/>
        </p:nvSpPr>
        <p:spPr>
          <a:xfrm>
            <a:off x="731880" y="404640"/>
            <a:ext cx="8304120" cy="67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. Организационно-методическая работа </a:t>
            </a:r>
            <a:r>
              <a:rPr b="1" lang="ru-RU" sz="2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- активно продолжается  работа по профессиональному росту, разработке методических материалов, практических продуктов для дистанционного формата работ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комендуемые научные, практические и методические ресурс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nfourok.ru – «Инфоурок» - ведущий образовательный портал России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s://www.rospsy.ru/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официальный сайт «Федерации психологов образования России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flogiston.ru/reviews/sites/socialpsy– интернет-портал МГПП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childpsy.ru – информационный-методический портал «Детская психология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psytoys.ru – сайт методического центра МГППУ «Игры и игрушки»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rospsy.ru – сайт «Российская психология», информационно-аналитический портал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s://mgppu.ru/ - официальный сайт Московского городского психолого–педагогического университ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60360" cy="6858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585720" y="1109520"/>
            <a:ext cx="4994280" cy="187020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оугольник 1"/>
          <p:cNvSpPr/>
          <p:nvPr/>
        </p:nvSpPr>
        <p:spPr>
          <a:xfrm>
            <a:off x="786600" y="262080"/>
            <a:ext cx="798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де можно получить психологическую помощ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2"/>
          <p:cNvSpPr/>
          <p:nvPr/>
        </p:nvSpPr>
        <p:spPr>
          <a:xfrm>
            <a:off x="5724360" y="1098720"/>
            <a:ext cx="3249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Психологическое консультирование, экстренная и кризисная психологическая помощь для детей в трудной жизненной ситуации, подростков и их родит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7"/>
          <p:cNvSpPr/>
          <p:nvPr/>
        </p:nvSpPr>
        <p:spPr>
          <a:xfrm>
            <a:off x="765000" y="3284640"/>
            <a:ext cx="8064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Сайт детского телефона доверия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www.telefon-doveria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На главной странице сайта посетитель увидит слайдер с возможностью выбрать свою возрастную группу – «дети», «подростки» и «родители» и ознакомиться с интересующей вас информаци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Портал для родителей «Я-родитель»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www.ya-roditel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Здесь родители найдут интересующие статьи,  видео, инфографики, возможность получить бесплатные консультации психолога и юрис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6036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"/>
          <p:cNvSpPr/>
          <p:nvPr/>
        </p:nvSpPr>
        <p:spPr>
          <a:xfrm>
            <a:off x="1031760" y="147600"/>
            <a:ext cx="795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ормативно-правовое регулирование образовательной деятельности в период дистанционного формата обуч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"/>
          <p:cNvPicPr/>
          <p:nvPr/>
        </p:nvPicPr>
        <p:blipFill>
          <a:blip r:embed="rId2"/>
          <a:stretch/>
        </p:blipFill>
        <p:spPr>
          <a:xfrm>
            <a:off x="7101000" y="5205240"/>
            <a:ext cx="1398600" cy="1400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"/>
          <p:cNvPicPr/>
          <p:nvPr/>
        </p:nvPicPr>
        <p:blipFill>
          <a:blip r:embed="rId3"/>
          <a:stretch/>
        </p:blipFill>
        <p:spPr>
          <a:xfrm>
            <a:off x="360360" y="0"/>
            <a:ext cx="695160" cy="93348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10" descr=""/>
          <p:cNvPicPr/>
          <p:nvPr/>
        </p:nvPicPr>
        <p:blipFill>
          <a:blip r:embed="rId4"/>
          <a:srcRect l="35695" t="12918" r="33786" b="9641"/>
          <a:stretch/>
        </p:blipFill>
        <p:spPr>
          <a:xfrm>
            <a:off x="568440" y="933480"/>
            <a:ext cx="4176720" cy="554652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1"/>
          <p:cNvSpPr/>
          <p:nvPr/>
        </p:nvSpPr>
        <p:spPr>
          <a:xfrm>
            <a:off x="5270400" y="2492280"/>
            <a:ext cx="3848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«… использовать различные образовательные технологии, позволяющие обеспечить взаимодействие обучающихся и педагогических работников опосредованно (на расстоянии), в том числе с применением электронного обучения и дистанционных образовательных технологий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"/>
          <p:cNvSpPr/>
          <p:nvPr/>
        </p:nvSpPr>
        <p:spPr>
          <a:xfrm>
            <a:off x="4416480" y="1341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Приказ Министер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просвещения РФ от 17.03.2020 г. № 10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6036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3" descr=""/>
          <p:cNvPicPr/>
          <p:nvPr/>
        </p:nvPicPr>
        <p:blipFill>
          <a:blip r:embed="rId2"/>
          <a:stretch/>
        </p:blipFill>
        <p:spPr>
          <a:xfrm>
            <a:off x="5867280" y="4721400"/>
            <a:ext cx="1981440" cy="1704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"/>
          <p:cNvPicPr/>
          <p:nvPr/>
        </p:nvPicPr>
        <p:blipFill>
          <a:blip r:embed="rId3"/>
          <a:stretch/>
        </p:blipFill>
        <p:spPr>
          <a:xfrm>
            <a:off x="539640" y="189000"/>
            <a:ext cx="4673880" cy="624024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1"/>
          <p:cNvSpPr/>
          <p:nvPr/>
        </p:nvSpPr>
        <p:spPr>
          <a:xfrm>
            <a:off x="5335560" y="907920"/>
            <a:ext cx="37800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Методические рекомендации Департамента государственной политики в сфере защиты прав детей Минпросвещения РФ от 27.03.2020  о усилении мер по вопросам психолого-педагогической поддержки обучающихся, родителей и педагог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6036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irort\Desktop\2018 год\Логотип\Победитель\логотип ИРО (разные цвета)\3.jpg"/>
          <p:cNvPicPr/>
          <p:nvPr/>
        </p:nvPicPr>
        <p:blipFill>
          <a:blip r:embed="rId2"/>
          <a:stretch/>
        </p:blipFill>
        <p:spPr>
          <a:xfrm>
            <a:off x="487440" y="85680"/>
            <a:ext cx="569880" cy="76536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1"/>
          <p:cNvSpPr/>
          <p:nvPr/>
        </p:nvSpPr>
        <p:spPr>
          <a:xfrm>
            <a:off x="4229280" y="3429000"/>
            <a:ext cx="4511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Организация психолого-педагогической поддержки образовательного процесса  в условиях дистанционного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7"/>
          <p:cNvSpPr/>
          <p:nvPr/>
        </p:nvSpPr>
        <p:spPr>
          <a:xfrm>
            <a:off x="1030320" y="12747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Организация психологической поддержки родителей и детей в условиях самоизоля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"/>
          <p:cNvPicPr/>
          <p:nvPr/>
        </p:nvPicPr>
        <p:blipFill>
          <a:blip r:embed="rId3"/>
          <a:stretch/>
        </p:blipFill>
        <p:spPr>
          <a:xfrm>
            <a:off x="495360" y="2852640"/>
            <a:ext cx="373392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6036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C:\Users\irort\Desktop\2018 год\Логотип\Победитель\логотип ИРО (разные цвета)\3.jpg"/>
          <p:cNvPicPr/>
          <p:nvPr/>
        </p:nvPicPr>
        <p:blipFill>
          <a:blip r:embed="rId2"/>
          <a:stretch/>
        </p:blipFill>
        <p:spPr>
          <a:xfrm>
            <a:off x="468360" y="333360"/>
            <a:ext cx="696960" cy="934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"/>
          <p:cNvPicPr/>
          <p:nvPr/>
        </p:nvPicPr>
        <p:blipFill>
          <a:blip r:embed="rId3"/>
          <a:stretch/>
        </p:blipFill>
        <p:spPr>
          <a:xfrm>
            <a:off x="441360" y="3602160"/>
            <a:ext cx="2928960" cy="285732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1"/>
          <p:cNvSpPr/>
          <p:nvPr/>
        </p:nvSpPr>
        <p:spPr>
          <a:xfrm>
            <a:off x="2286000" y="76320"/>
            <a:ext cx="66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лгоритм взаимодействия педагогов и педагогов-психологов с обучающимися и родителями (законными представителями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2"/>
          <p:cNvSpPr/>
          <p:nvPr/>
        </p:nvSpPr>
        <p:spPr>
          <a:xfrm>
            <a:off x="557280" y="1300320"/>
            <a:ext cx="5040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66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установление и поддержка постоянного контакта с родителями, учителями и администрацией образовательных организаци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3"/>
          <p:cNvSpPr/>
          <p:nvPr/>
        </p:nvSpPr>
        <p:spPr>
          <a:xfrm>
            <a:off x="3402000" y="2459160"/>
            <a:ext cx="5508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66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создание единой цифровой образовательной платформы, наличие устойчивой интернет-связи, способность использовать современные информационные образовательные ресурс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4"/>
          <p:cNvSpPr/>
          <p:nvPr/>
        </p:nvSpPr>
        <p:spPr>
          <a:xfrm>
            <a:off x="3276720" y="4398840"/>
            <a:ext cx="57592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66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проведение просветительских, методических, организационных консультаций по вопросам: организации дистанционного обучения и повышение мотивации школьников к дистанционной форме, досуга детей дома,  повышение психологических адаптационных качест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6036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C:\Users\irort\Desktop\2018 год\Логотип\Победитель\логотип ИРО (разные цвета)\3.jpg"/>
          <p:cNvPicPr/>
          <p:nvPr/>
        </p:nvPicPr>
        <p:blipFill>
          <a:blip r:embed="rId2"/>
          <a:stretch/>
        </p:blipFill>
        <p:spPr>
          <a:xfrm>
            <a:off x="407880" y="90360"/>
            <a:ext cx="695520" cy="93528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1"/>
          <p:cNvSpPr/>
          <p:nvPr/>
        </p:nvSpPr>
        <p:spPr>
          <a:xfrm>
            <a:off x="1692360" y="32544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сихологическая поддержка предусматрива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Группа 3"/>
          <p:cNvGrpSpPr/>
          <p:nvPr/>
        </p:nvGrpSpPr>
        <p:grpSpPr>
          <a:xfrm>
            <a:off x="708120" y="907920"/>
            <a:ext cx="8327880" cy="5834160"/>
            <a:chOff x="708120" y="907920"/>
            <a:chExt cx="8327880" cy="5834160"/>
          </a:xfrm>
        </p:grpSpPr>
        <p:sp>
          <p:nvSpPr>
            <p:cNvPr id="73" name="Полилиния 4"/>
            <p:cNvSpPr/>
            <p:nvPr/>
          </p:nvSpPr>
          <p:spPr>
            <a:xfrm>
              <a:off x="871560" y="907920"/>
              <a:ext cx="8164440" cy="840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b">
              <a:noAutofit/>
            </a:bodyPr>
            <a:p>
              <a:pPr marL="343080" indent="-343080">
                <a:lnSpc>
                  <a:spcPct val="90000"/>
                </a:lnSpc>
                <a:spcAft>
                  <a:spcPts val="876"/>
                </a:spcAft>
                <a:buClr>
                  <a:srgbClr val="006666"/>
                </a:buClr>
                <a:buFont typeface="Wingdings" charset="2"/>
                <a:buChar char=""/>
                <a:tabLst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ru-RU" sz="2000" spc="-1" strike="noStrike">
                  <a:solidFill>
                    <a:srgbClr val="006666"/>
                  </a:solidFill>
                  <a:latin typeface="Times New Roman"/>
                  <a:ea typeface="Times New Roman"/>
                </a:rPr>
                <a:t>использование в психологической поддержке форм и методов экстренной и кризисной психологической помощи;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Полилиния 12"/>
            <p:cNvSpPr/>
            <p:nvPr/>
          </p:nvSpPr>
          <p:spPr>
            <a:xfrm>
              <a:off x="804960" y="1873800"/>
              <a:ext cx="8164440" cy="8424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b">
              <a:noAutofit/>
            </a:bodyPr>
            <a:p>
              <a:pPr marL="343080" indent="-343080">
                <a:lnSpc>
                  <a:spcPct val="90000"/>
                </a:lnSpc>
                <a:spcAft>
                  <a:spcPts val="876"/>
                </a:spcAft>
                <a:buClr>
                  <a:srgbClr val="006666"/>
                </a:buClr>
                <a:buFont typeface="Wingdings" charset="2"/>
                <a:buChar char=""/>
                <a:tabLst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ru-RU" sz="2000" spc="-1" strike="noStrike">
                  <a:solidFill>
                    <a:srgbClr val="006666"/>
                  </a:solidFill>
                  <a:latin typeface="Times New Roman"/>
                  <a:ea typeface="Times New Roman"/>
                </a:rPr>
                <a:t>психологическое консультирование родителей и близких членов семей обучающихся, направленных на развитие умений справляться с изменившимися условиями жизни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Полилиния 20"/>
            <p:cNvSpPr/>
            <p:nvPr/>
          </p:nvSpPr>
          <p:spPr>
            <a:xfrm>
              <a:off x="726840" y="2899800"/>
              <a:ext cx="8164440" cy="1036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b">
              <a:noAutofit/>
            </a:bodyPr>
            <a:p>
              <a:pPr marL="343080" indent="-343080">
                <a:lnSpc>
                  <a:spcPct val="90000"/>
                </a:lnSpc>
                <a:spcAft>
                  <a:spcPts val="876"/>
                </a:spcAft>
                <a:buClr>
                  <a:srgbClr val="006666"/>
                </a:buClr>
                <a:buFont typeface="Wingdings" charset="2"/>
                <a:buChar char=""/>
                <a:tabLst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ru-RU" sz="2000" spc="-1" strike="noStrike">
                  <a:solidFill>
                    <a:srgbClr val="006666"/>
                  </a:solidFill>
                  <a:latin typeface="Times New Roman"/>
                  <a:ea typeface="Times New Roman"/>
                </a:rPr>
                <a:t>информирование о возможностях получения консультативной психологической помощь, оказываемой анонимно (в том числе с использованием телефона доверия)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Полилиния 28"/>
            <p:cNvSpPr/>
            <p:nvPr/>
          </p:nvSpPr>
          <p:spPr>
            <a:xfrm>
              <a:off x="708120" y="4063320"/>
              <a:ext cx="8164440" cy="10526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280" rIns="53280" tIns="53280" bIns="53280" anchor="b">
              <a:noAutofit/>
            </a:bodyPr>
            <a:p>
              <a:pPr marL="343080" indent="-343080">
                <a:lnSpc>
                  <a:spcPct val="90000"/>
                </a:lnSpc>
                <a:spcAft>
                  <a:spcPts val="876"/>
                </a:spcAft>
                <a:buClr>
                  <a:srgbClr val="006666"/>
                </a:buClr>
                <a:buFont typeface="Wingdings" charset="2"/>
                <a:buChar char=""/>
                <a:tabLst>
                  <a:tab algn="l" pos="622440"/>
                  <a:tab algn="l" pos="1244520"/>
                  <a:tab algn="l" pos="1866960"/>
                  <a:tab algn="l" pos="2489040"/>
                  <a:tab algn="l" pos="3111480"/>
                  <a:tab algn="l" pos="3733920"/>
                  <a:tab algn="l" pos="4356000"/>
                  <a:tab algn="l" pos="4978440"/>
                  <a:tab algn="l" pos="5600880"/>
                  <a:tab algn="l" pos="6222960"/>
                  <a:tab algn="l" pos="6845400"/>
                  <a:tab algn="l" pos="7467480"/>
                  <a:tab algn="l" pos="8089920"/>
                  <a:tab algn="l" pos="8712360"/>
                  <a:tab algn="l" pos="9334440"/>
                  <a:tab algn="l" pos="9956880"/>
                  <a:tab algn="l" pos="10578960"/>
                </a:tabLst>
              </a:pPr>
              <a:r>
                <a:rPr b="1" lang="ru-RU" sz="2000" spc="-1" strike="noStrike">
                  <a:solidFill>
                    <a:srgbClr val="006666"/>
                  </a:solidFill>
                  <a:latin typeface="Times New Roman"/>
                  <a:ea typeface="Times New Roman"/>
                </a:rPr>
                <a:t>обучение навыкам совладающего поведения всем субъектам образовательной среды, обучение навыкам саморегуляции (с учетом разных возрастных и целевых групп)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Полилиния 39941"/>
            <p:cNvSpPr/>
            <p:nvPr/>
          </p:nvSpPr>
          <p:spPr>
            <a:xfrm>
              <a:off x="726840" y="5116320"/>
              <a:ext cx="8164440" cy="11570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280" rIns="53280" tIns="53280" bIns="53280" anchor="b">
              <a:noAutofit/>
            </a:bodyPr>
            <a:p>
              <a:pPr marL="343080" indent="-343080">
                <a:lnSpc>
                  <a:spcPct val="90000"/>
                </a:lnSpc>
                <a:spcAft>
                  <a:spcPts val="876"/>
                </a:spcAft>
                <a:buClr>
                  <a:srgbClr val="006666"/>
                </a:buClr>
                <a:buFont typeface="Wingdings" charset="2"/>
                <a:buChar char=""/>
                <a:tabLst>
                  <a:tab algn="l" pos="622440"/>
                  <a:tab algn="l" pos="1244520"/>
                  <a:tab algn="l" pos="1866960"/>
                  <a:tab algn="l" pos="2489040"/>
                  <a:tab algn="l" pos="3111480"/>
                  <a:tab algn="l" pos="3733920"/>
                  <a:tab algn="l" pos="4356000"/>
                  <a:tab algn="l" pos="4978440"/>
                  <a:tab algn="l" pos="5600880"/>
                  <a:tab algn="l" pos="6222960"/>
                  <a:tab algn="l" pos="6845400"/>
                  <a:tab algn="l" pos="7467480"/>
                  <a:tab algn="l" pos="8089920"/>
                  <a:tab algn="l" pos="8712360"/>
                  <a:tab algn="l" pos="9334440"/>
                  <a:tab algn="l" pos="9956880"/>
                  <a:tab algn="l" pos="10578960"/>
                </a:tabLst>
              </a:pPr>
              <a:r>
                <a:rPr b="1" lang="ru-RU" sz="2000" spc="-1" strike="noStrike">
                  <a:solidFill>
                    <a:srgbClr val="006666"/>
                  </a:solidFill>
                  <a:latin typeface="Times New Roman"/>
                  <a:ea typeface="Times New Roman"/>
                </a:rPr>
                <a:t>организация в дистанционной форме групп взаимоподдержки с семьями с детьми, повышения стрессоустойчивости в домашних условиях, повышения уровня коммуникации в семье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8" name="Параллелограмм 39942" descr=""/>
            <p:cNvPicPr/>
            <p:nvPr/>
          </p:nvPicPr>
          <p:blipFill>
            <a:blip r:embed="rId3"/>
            <a:stretch/>
          </p:blipFill>
          <p:spPr>
            <a:xfrm>
              <a:off x="835200" y="6493320"/>
              <a:ext cx="1158120" cy="24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Параллелограмм 39943" descr=""/>
            <p:cNvPicPr/>
            <p:nvPr/>
          </p:nvPicPr>
          <p:blipFill>
            <a:blip r:embed="rId4"/>
            <a:stretch/>
          </p:blipFill>
          <p:spPr>
            <a:xfrm>
              <a:off x="1987200" y="6493320"/>
              <a:ext cx="1158120" cy="24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Параллелограмм 39944" descr=""/>
            <p:cNvPicPr/>
            <p:nvPr/>
          </p:nvPicPr>
          <p:blipFill>
            <a:blip r:embed="rId5"/>
            <a:stretch/>
          </p:blipFill>
          <p:spPr>
            <a:xfrm>
              <a:off x="3139560" y="6493320"/>
              <a:ext cx="1158120" cy="24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Параллелограмм 39945" descr=""/>
            <p:cNvPicPr/>
            <p:nvPr/>
          </p:nvPicPr>
          <p:blipFill>
            <a:blip r:embed="rId6"/>
            <a:stretch/>
          </p:blipFill>
          <p:spPr>
            <a:xfrm>
              <a:off x="4291560" y="6493320"/>
              <a:ext cx="1158120" cy="24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Параллелограмм 39946" descr=""/>
            <p:cNvPicPr/>
            <p:nvPr/>
          </p:nvPicPr>
          <p:blipFill>
            <a:blip r:embed="rId7"/>
            <a:stretch/>
          </p:blipFill>
          <p:spPr>
            <a:xfrm>
              <a:off x="5443920" y="6493320"/>
              <a:ext cx="1158120" cy="24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Параллелограмм 39947" descr=""/>
            <p:cNvPicPr/>
            <p:nvPr/>
          </p:nvPicPr>
          <p:blipFill>
            <a:blip r:embed="rId8"/>
            <a:stretch/>
          </p:blipFill>
          <p:spPr>
            <a:xfrm>
              <a:off x="6595920" y="6493320"/>
              <a:ext cx="1158120" cy="24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Параллелограмм 39948" descr=""/>
            <p:cNvPicPr/>
            <p:nvPr/>
          </p:nvPicPr>
          <p:blipFill>
            <a:blip r:embed="rId9"/>
            <a:stretch/>
          </p:blipFill>
          <p:spPr>
            <a:xfrm>
              <a:off x="7748280" y="6493320"/>
              <a:ext cx="1158120" cy="248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-3240" y="0"/>
            <a:ext cx="36036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C:\Users\irort\Desktop\2018 год\Логотип\Победитель\логотип ИРО (разные цвета)\3.jpg"/>
          <p:cNvPicPr/>
          <p:nvPr/>
        </p:nvPicPr>
        <p:blipFill>
          <a:blip r:embed="rId2"/>
          <a:stretch/>
        </p:blipFill>
        <p:spPr>
          <a:xfrm>
            <a:off x="468360" y="333360"/>
            <a:ext cx="696960" cy="93492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1"/>
          <p:cNvSpPr/>
          <p:nvPr/>
        </p:nvSpPr>
        <p:spPr>
          <a:xfrm>
            <a:off x="611280" y="1190520"/>
            <a:ext cx="6145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Особого внимания педагогических работников вне образовательного учреждения требуют обучающиеся группы риска, с целью предупреждения возникновения у несовершеннолетних социальной дезадаптации, проявлений аддикций и девиаций поведения,  попадание  деструктивные сооб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8" descr=""/>
          <p:cNvPicPr/>
          <p:nvPr/>
        </p:nvPicPr>
        <p:blipFill>
          <a:blip r:embed="rId3"/>
          <a:stretch/>
        </p:blipFill>
        <p:spPr>
          <a:xfrm>
            <a:off x="6877080" y="1914480"/>
            <a:ext cx="2127240" cy="1876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"/>
          <p:cNvPicPr/>
          <p:nvPr/>
        </p:nvPicPr>
        <p:blipFill>
          <a:blip r:embed="rId4"/>
          <a:stretch/>
        </p:blipFill>
        <p:spPr>
          <a:xfrm>
            <a:off x="2365200" y="4221000"/>
            <a:ext cx="3294360" cy="22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6036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1"/>
          <p:cNvSpPr/>
          <p:nvPr/>
        </p:nvSpPr>
        <p:spPr>
          <a:xfrm>
            <a:off x="480960" y="384120"/>
            <a:ext cx="3313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к помочь ребенку с ОВЗ, особенно с  РАС,  перейти на дистанционный режим обучен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2"/>
          <p:cNvSpPr/>
          <p:nvPr/>
        </p:nvSpPr>
        <p:spPr>
          <a:xfrm>
            <a:off x="4497480" y="88920"/>
            <a:ext cx="4572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создание специальных условий обучения в домашней среде и организации психолого-педагогического сопровождения родителей и ребен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3"/>
          <p:cNvSpPr/>
          <p:nvPr/>
        </p:nvSpPr>
        <p:spPr>
          <a:xfrm>
            <a:off x="1293840" y="1873080"/>
            <a:ext cx="575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новные темы консультирования родителе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2"/>
          <a:stretch/>
        </p:blipFill>
        <p:spPr>
          <a:xfrm>
            <a:off x="6505560" y="2305080"/>
            <a:ext cx="2070000" cy="182880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4"/>
          <p:cNvSpPr/>
          <p:nvPr/>
        </p:nvSpPr>
        <p:spPr>
          <a:xfrm>
            <a:off x="628920" y="2305080"/>
            <a:ext cx="452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66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способы адаптации домашней среды 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обучению  и развитию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5"/>
          <p:cNvSpPr/>
          <p:nvPr/>
        </p:nvSpPr>
        <p:spPr>
          <a:xfrm>
            <a:off x="601560" y="295740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66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подбор способов мотивации и ее поддержки к учебной деятельности у ребенка с РАС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6"/>
          <p:cNvSpPr/>
          <p:nvPr/>
        </p:nvSpPr>
        <p:spPr>
          <a:xfrm>
            <a:off x="601560" y="3978360"/>
            <a:ext cx="558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66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формирование учебного поведения в домашних условия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7"/>
          <p:cNvSpPr/>
          <p:nvPr/>
        </p:nvSpPr>
        <p:spPr>
          <a:xfrm>
            <a:off x="515880" y="468468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66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способы преодоления нежелательного повед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3"/>
          <a:srcRect l="71488" t="0" r="2088" b="69381"/>
          <a:stretch/>
        </p:blipFill>
        <p:spPr>
          <a:xfrm>
            <a:off x="7143840" y="4726080"/>
            <a:ext cx="1704960" cy="16430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"/>
          <p:cNvPicPr/>
          <p:nvPr/>
        </p:nvPicPr>
        <p:blipFill>
          <a:blip r:embed="rId4"/>
          <a:srcRect l="70984" t="1472" r="1583" b="69443"/>
          <a:stretch/>
        </p:blipFill>
        <p:spPr>
          <a:xfrm>
            <a:off x="3700440" y="766800"/>
            <a:ext cx="1150920" cy="95868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8"/>
          <p:cNvSpPr/>
          <p:nvPr/>
        </p:nvSpPr>
        <p:spPr>
          <a:xfrm>
            <a:off x="485640" y="5099040"/>
            <a:ext cx="6691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66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для обучающихся с РАС с сохранным интеллектуальным развитием, работа по его подготовке к учебной деятельности может осуществляться  непосредственного педагогом или педагогом-психологом в режиме он-лай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6036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1"/>
          <p:cNvSpPr/>
          <p:nvPr/>
        </p:nvSpPr>
        <p:spPr>
          <a:xfrm>
            <a:off x="1527120" y="47520"/>
            <a:ext cx="74008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Профессиональная деятельность  педагога- психолога в условиях дистанционного обучения продолжает осуществляться в рамках основных направлений деятельности, предусмотренных Профессиональным стандартом «Педагог-психолог в сфере образования», с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менением электронного обучения и дистанционных образовательных технолог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9" descr=""/>
          <p:cNvPicPr/>
          <p:nvPr/>
        </p:nvPicPr>
        <p:blipFill>
          <a:blip r:embed="rId2"/>
          <a:stretch/>
        </p:blipFill>
        <p:spPr>
          <a:xfrm>
            <a:off x="5923080" y="3375000"/>
            <a:ext cx="3004920" cy="1563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2" descr=""/>
          <p:cNvPicPr/>
          <p:nvPr/>
        </p:nvPicPr>
        <p:blipFill>
          <a:blip r:embed="rId3"/>
          <a:stretch/>
        </p:blipFill>
        <p:spPr>
          <a:xfrm>
            <a:off x="360360" y="692280"/>
            <a:ext cx="1152360" cy="957240"/>
          </a:xfrm>
          <a:prstGeom prst="rect">
            <a:avLst/>
          </a:prstGeom>
          <a:ln w="0">
            <a:noFill/>
          </a:ln>
        </p:spPr>
      </p:pic>
      <p:sp>
        <p:nvSpPr>
          <p:cNvPr id="106" name="Прямоугольник 2"/>
          <p:cNvSpPr/>
          <p:nvPr/>
        </p:nvSpPr>
        <p:spPr>
          <a:xfrm>
            <a:off x="684360" y="4653000"/>
            <a:ext cx="7408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сихологическое просвещение 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– основной  ресурс  для реализации -  школьный сайт/или персональные сайты педагогов-психологов, на которых будут публиковаться различные материалы для всех участников образовательного процесса – обучающихся, педагогов, родителей (рекомендации, памятки, видеоконференции, вебинары, презентации, фильмы, видеосюжеты и т.п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3"/>
          <p:cNvSpPr/>
          <p:nvPr/>
        </p:nvSpPr>
        <p:spPr>
          <a:xfrm>
            <a:off x="655560" y="2492280"/>
            <a:ext cx="662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1.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сихологическое консультирование  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может осуществляться в виде дистанционных консультаций при помощи телефона, электронной почты, программ Skype, Zoom, WhatsApp, онлайн-консультаций на школьном сайте и т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6T12:38:20Z</dcterms:created>
  <dc:creator>IRO RT</dc:creator>
  <dc:description/>
  <dc:language>en-US</dc:language>
  <cp:lastModifiedBy>Игорь</cp:lastModifiedBy>
  <cp:lastPrinted>2012-03-27T12:11:33Z</cp:lastPrinted>
  <dcterms:modified xsi:type="dcterms:W3CDTF">2020-04-09T07:56:34Z</dcterms:modified>
  <cp:revision>194</cp:revision>
  <dc:subject/>
  <dc:title>Слайд 1</dc:title>
</cp:coreProperties>
</file>